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EAF3BA-BE1A-44A6-9DC5-0E5700D734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1A2D9-7144-4EDC-A139-F354D5B30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D47BD1-8916-4DA1-8163-B14ABBD83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55F7CA-29B3-41F7-85B7-EBA01D02A1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A0992-B3EC-4824-A9F1-2BF7CDD57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922F4-0F9A-4884-A3FC-FEBFDBDB0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8DC38-A797-4474-BB69-1D63FFE1B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ECC12-1045-417E-BC29-35F82D3E9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BDFB1-867F-438C-93F9-7F14E63AF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56D51-D8C5-494F-9B26-4E87869AE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E1D02-DC5A-486F-B470-7EE7F91DF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ABFD0-3272-4B77-873F-54780590FF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B8F50-6D20-4C88-AB5A-0686BA62253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culty Senate Committe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ouglas Field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President-elect 2008-200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are to the Research Policy Committee Charge</a:t>
            </a:r>
            <a:endParaRPr b="0" lang="en-US" sz="4000" spc="-1" strike="noStrike">
              <a:solidFill>
                <a:srgbClr val="000000"/>
              </a:solidFill>
              <a:latin typeface="Calibri"/>
            </a:endParaRPr>
          </a:p>
        </p:txBody>
      </p:sp>
      <p:sp>
        <p:nvSpPr>
          <p:cNvPr id="62" name=""/>
          <p:cNvSpPr txBox="1"/>
          <p:nvPr/>
        </p:nvSpPr>
        <p:spPr>
          <a:xfrm>
            <a:off x="457200" y="1371240"/>
            <a:ext cx="8229600" cy="5334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Research Policy Committee Charge states:</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primary role of the Research Policy Committee shall be to encourage and support research and its funding at the University of New Mexico, including all its established units. The functions of the committee shall include, but not be limited to: </a:t>
            </a:r>
            <a:r>
              <a:rPr b="0" lang="en-US" sz="1500" spc="-1" strike="noStrike">
                <a:solidFill>
                  <a:srgbClr val="c00000"/>
                </a:solidFill>
                <a:latin typeface="Calibri"/>
              </a:rPr>
              <a:t>initiating, formulating, recommending, and reviewing policies regarding sponsored and unsponsored research, and intellectual property; recommending University policy regarding the distribution of overhead and institutional grants; reviewing with the chief administrative officers for research the research budget of the University prior to and during its final development</a:t>
            </a:r>
            <a:r>
              <a:rPr b="0" lang="en-US" sz="1500" spc="-1" strike="noStrike">
                <a:solidFill>
                  <a:srgbClr val="000000"/>
                </a:solidFill>
                <a:latin typeface="Calibri"/>
              </a:rPr>
              <a:t>, and informing and making recommendations to the Faculty Senate regarding this budget; recommending policy concerning the use of the Faculty Research Fund and reviewing and making recommendations to the administration through the Faculty Senate regarding the budget of the Faculty Research Fund; formulating policy regarding the establishment, major modification or termination, and periodic review of research centers, bureaus, institutes, or other related organizations, reviewing and making recommendations to the central administration and the Faculty Senate on proposals regarding these bodies, and participating in the periodic review of these centers; </a:t>
            </a:r>
            <a:r>
              <a:rPr b="0" lang="en-US" sz="1500" spc="-1" strike="noStrike">
                <a:solidFill>
                  <a:srgbClr val="c00000"/>
                </a:solidFill>
                <a:latin typeface="Calibri"/>
              </a:rPr>
              <a:t>evaluating, formulating and recommending policy concerning research support services provided by computer facilities, libraries, contract accounting, research administration, and other support organizations; making recommendations to the central administration when the appointment of the chief administrative officers for research is being considered; </a:t>
            </a:r>
            <a:r>
              <a:rPr b="0" lang="en-US" sz="1500" spc="-1" strike="noStrike">
                <a:solidFill>
                  <a:srgbClr val="000000"/>
                </a:solidFill>
                <a:latin typeface="Calibri"/>
              </a:rPr>
              <a:t>making recommendations to the Faculty Senate on matters of grant research, contract research, patent and copyright policy, and policy on commercialization of intellectual property affecting directly or indirectly the faculty and University as a whole; consulting with the Faculty Senate on formulating the charge of the Intellectual Property Committee as called for in the University Intellectual Property Policy; recommending candidates for the Annual Research Lectureship; meeting with the academic deans formally at least once each year to discuss current problems and exchange information concerning research; and consulting with the chief administrative officers for research regarding implementation of policies.</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Wasn’t the Committee Used?</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ed Dasenbrock:</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key issue … the pace of decision making.   The faculty senate and related committees simply don't work at the speed at which real decisions need to be made.    A lot of work went into committee simplification the past couple of years; with what result, I don't know.   But without a leaner and faster structure, even those administrators who want faculty input will create their own groups.   The research policy committee was working the whole time I was provost on the IP policy for the university, so another major task was obviously not in the card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f course, if as an administrator I want the appearance of input but not the substance, then I will also create my own committees, hand pick the members, and guide the result.   The difficulty is differentiating between the two cas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Wasn’t the Committee Used?</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rl:</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t>
            </a:r>
            <a:r>
              <a:rPr b="0" lang="en-US" sz="1500" spc="-1" strike="noStrike">
                <a:solidFill>
                  <a:srgbClr val="000000"/>
                </a:solidFill>
                <a:latin typeface="Calibri"/>
              </a:rPr>
              <a:t>The Research Policy Committee had been marginalized.  It dealt (and deals) with small-bore issues of research policy and things like small internal summer research grants.  These are not the questions that are important for the faculty who get large-scale research funding, nor are they the important issues for the VPR.  The VPR, I believe, viewed the RPC as a convenient group to handle these things that really were too trivial for his concern.”</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t>
            </a:r>
            <a:r>
              <a:rPr b="0" lang="en-US" sz="1500" spc="-1" strike="noStrike">
                <a:solidFill>
                  <a:srgbClr val="000000"/>
                </a:solidFill>
                <a:latin typeface="Calibri"/>
              </a:rPr>
              <a:t>Going hand in hand with 1 is that the RPC's membership represents the entire faculty---perhaps appropriate for a Senate committee---which is mainly interested only in these small-scale research questions.   These are not the issues that are important to the faculty who get large-scale research funding---these are concentrated mainly (but not entirely) in the sciences and engineering---nor are these the really important questions for a VPR.”</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t>
            </a:r>
            <a:r>
              <a:rPr b="0" lang="en-US" sz="1500" spc="-1" strike="noStrike">
                <a:solidFill>
                  <a:srgbClr val="000000"/>
                </a:solidFill>
                <a:latin typeface="Calibri"/>
              </a:rPr>
              <a:t>The RSG wanted a committee that represented not just the faculty, but also the staff who interface with research administration.   We made the three Associate Deans for Research automatic members because we felt that they were the natural representatives of faculty research interests.  If you look carefully at the RSG report---and this would be a good thing to review---the current ERAC is not what we proposed, both in terms of responsibilities and make-up.   In particular, we explicitly ruled out any members from the central research administration.   On the other hand, the committee we proposed is probably not a typical Faculty Senate committee in terms of responsibility and membership.”</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y Recommendations for Chang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erge the research oriented committe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iversity Research (Research Policy, Research Allocations, Intellectual Property)</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ave two co-chair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 main Campus, one HSC.</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hairs sit on OPS Committe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will give this committee more prominence and flexibility to react to problems that need immediate attent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t will simplify the OPS Committee and the Administration connection to the Faculty Senate Research Committees.</a:t>
            </a:r>
            <a:endParaRPr b="0" lang="en-US" sz="2700" spc="-1" strike="noStrike">
              <a:solidFill>
                <a:srgbClr val="000000"/>
              </a:solidFill>
              <a:latin typeface="Calibri"/>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nded to Other Area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anding committe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earch (Research Policy, Research Allocations, Intellectual Proper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ademics ( A&amp;R, Curricula, Scholarship, Undergraduate, Graduate, Teaching Enhancemen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siness (Budget, Government Relations, Campus Planning, Library, Computer Us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ulty Life (Faculty &amp; Staff Benefits, Faculty Ethics and Advisory Committe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hletic Counci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icy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ecutive (President, President-elect, Past President, Committee Chairs,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neral Guidelines for Committee Chairs </a:t>
            </a: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Membership Issues</a:t>
            </a:r>
            <a:endParaRPr b="0" lang="en-US" sz="1300" spc="-1" strike="noStrike">
              <a:solidFill>
                <a:srgbClr val="000000"/>
              </a:solidFill>
              <a:latin typeface="Calibri"/>
            </a:endParaRPr>
          </a:p>
          <a:p>
            <a:pPr lvl="1" marL="735480" indent="-28296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lease notify the Office of the Secretary of any changes in membership, including resignations; name changes; and phone or address changes.</a:t>
            </a:r>
            <a:endParaRPr b="0" lang="en-US" sz="1100" spc="-1" strike="noStrike">
              <a:solidFill>
                <a:srgbClr val="000000"/>
              </a:solidFill>
              <a:latin typeface="Calibri"/>
            </a:endParaRPr>
          </a:p>
          <a:p>
            <a:pPr marL="339480" indent="-3394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ttendance Issues</a:t>
            </a:r>
            <a:endParaRPr b="0" lang="en-US" sz="1300" spc="-1" strike="noStrike">
              <a:solidFill>
                <a:srgbClr val="000000"/>
              </a:solidFill>
              <a:latin typeface="Calibri"/>
            </a:endParaRPr>
          </a:p>
          <a:p>
            <a:pPr lvl="1" marL="735480" indent="-28296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lease notify the Office of the Secretary of problems with attendance.</a:t>
            </a:r>
            <a:endParaRPr b="0" lang="en-US" sz="1100" spc="-1" strike="noStrike">
              <a:solidFill>
                <a:srgbClr val="000000"/>
              </a:solidFill>
              <a:latin typeface="Calibri"/>
            </a:endParaRPr>
          </a:p>
          <a:p>
            <a:pPr marL="339480" indent="-3394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Minutes &amp; Agendas</a:t>
            </a:r>
            <a:endParaRPr b="0" lang="en-US" sz="1300" spc="-1" strike="noStrike">
              <a:solidFill>
                <a:srgbClr val="000000"/>
              </a:solidFill>
              <a:latin typeface="Calibri"/>
            </a:endParaRPr>
          </a:p>
          <a:p>
            <a:pPr lvl="1" marL="735480" indent="-28296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lease see that a copy of the minutes and agenda for each meeting are provided to the Office of the Secretary.</a:t>
            </a:r>
            <a:endParaRPr b="0" lang="en-US" sz="1100" spc="-1" strike="noStrike">
              <a:solidFill>
                <a:srgbClr val="000000"/>
              </a:solidFill>
              <a:latin typeface="Calibri"/>
            </a:endParaRPr>
          </a:p>
          <a:p>
            <a:pPr marL="339480" indent="-3394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Temporary Chairs</a:t>
            </a:r>
            <a:endParaRPr b="0" lang="en-US" sz="1300" spc="-1" strike="noStrike">
              <a:solidFill>
                <a:srgbClr val="000000"/>
              </a:solidFill>
              <a:latin typeface="Calibri"/>
            </a:endParaRPr>
          </a:p>
          <a:p>
            <a:pPr lvl="1" marL="735480" indent="-28296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the beginning of the Fall semester the Office of the Secretary assigns a temporary chair to those committees whose chair has resigned or term has expired.</a:t>
            </a:r>
            <a:endParaRPr b="0" lang="en-US" sz="1100" spc="-1" strike="noStrike">
              <a:solidFill>
                <a:srgbClr val="000000"/>
              </a:solidFill>
              <a:latin typeface="Calibri"/>
            </a:endParaRPr>
          </a:p>
          <a:p>
            <a:pPr marL="339480" indent="-3394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Faculty Senate Representatives on Committees</a:t>
            </a:r>
            <a:endParaRPr b="0" lang="en-US" sz="1300" spc="-1" strike="noStrike">
              <a:solidFill>
                <a:srgbClr val="000000"/>
              </a:solidFill>
              <a:latin typeface="Calibri"/>
            </a:endParaRPr>
          </a:p>
          <a:p>
            <a:pPr lvl="1" marL="735480" indent="-28296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ach committee will be assigned a Faculty Senate Representative as one of its members.</a:t>
            </a:r>
            <a:endParaRPr b="0" lang="en-US" sz="1100" spc="-1" strike="noStrike">
              <a:solidFill>
                <a:srgbClr val="000000"/>
              </a:solidFill>
              <a:latin typeface="Calibri"/>
            </a:endParaRPr>
          </a:p>
          <a:p>
            <a:pPr marL="339480" indent="-3394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Initial Meetings</a:t>
            </a:r>
            <a:endParaRPr b="0" lang="en-US" sz="1300" spc="-1" strike="noStrike">
              <a:solidFill>
                <a:srgbClr val="000000"/>
              </a:solidFill>
              <a:latin typeface="Calibri"/>
            </a:endParaRPr>
          </a:p>
          <a:p>
            <a:pPr lvl="1" marL="735480" indent="-28296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chair, temporary chair, or Faculty Senate Representative acting as temporary chair should notify the Office of the Secretary of the name and department of the permanent chair.</a:t>
            </a:r>
            <a:endParaRPr b="0" lang="en-US" sz="1100" spc="-1" strike="noStrike">
              <a:solidFill>
                <a:srgbClr val="000000"/>
              </a:solidFill>
              <a:latin typeface="Calibri"/>
            </a:endParaRPr>
          </a:p>
          <a:p>
            <a:pPr marL="339480" indent="-3394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Calling Meetings</a:t>
            </a:r>
            <a:endParaRPr b="0" lang="en-US" sz="1300" spc="-1" strike="noStrike">
              <a:solidFill>
                <a:srgbClr val="000000"/>
              </a:solidFill>
              <a:latin typeface="Calibri"/>
            </a:endParaRPr>
          </a:p>
          <a:p>
            <a:pPr lvl="1" marL="735480" indent="-28296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Office of the Secretary assists the chair in scheduling the first meeting, with subsequent meetings and notices of meetings being the responsibility of the chair.</a:t>
            </a:r>
            <a:endParaRPr b="0" lang="en-US" sz="1100" spc="-1" strike="noStrike">
              <a:solidFill>
                <a:srgbClr val="000000"/>
              </a:solidFill>
              <a:latin typeface="Calibri"/>
            </a:endParaRPr>
          </a:p>
          <a:p>
            <a:pPr marL="339480" indent="-3394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Quorums</a:t>
            </a:r>
            <a:endParaRPr b="0" lang="en-US" sz="1300" spc="-1" strike="noStrike">
              <a:solidFill>
                <a:srgbClr val="000000"/>
              </a:solidFill>
              <a:latin typeface="Calibri"/>
            </a:endParaRPr>
          </a:p>
          <a:p>
            <a:pPr lvl="1" marL="735480" indent="-28296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You do not need a quorum to conduct business UNLESS someone on the committee calls for a quorum.</a:t>
            </a:r>
            <a:endParaRPr b="0" lang="en-US" sz="1100" spc="-1" strike="noStrike">
              <a:solidFill>
                <a:srgbClr val="000000"/>
              </a:solidFill>
              <a:latin typeface="Calibri"/>
            </a:endParaRPr>
          </a:p>
          <a:p>
            <a:pPr marL="339480" indent="-3394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cademic Year End Report of Committee</a:t>
            </a:r>
            <a:endParaRPr b="0" lang="en-US" sz="1300" spc="-1" strike="noStrike">
              <a:solidFill>
                <a:srgbClr val="000000"/>
              </a:solidFill>
              <a:latin typeface="Calibri"/>
            </a:endParaRPr>
          </a:p>
          <a:p>
            <a:pPr lvl="1" marL="735480" indent="-28296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se reports are helpful to get an overall idea of what the committee has accomplished during the year, however, more important are the minutes of every meeting.</a:t>
            </a:r>
            <a:endParaRPr b="0" lang="en-US" sz="1100" spc="-1" strike="noStrike">
              <a:solidFill>
                <a:srgbClr val="000000"/>
              </a:solidFill>
              <a:latin typeface="Calibri"/>
            </a:endParaRPr>
          </a:p>
          <a:p>
            <a:pPr marL="339480" indent="-3394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SUNM and GPSA Appointments</a:t>
            </a:r>
            <a:endParaRPr b="0" lang="en-US" sz="1300" spc="-1" strike="noStrike">
              <a:solidFill>
                <a:srgbClr val="000000"/>
              </a:solidFill>
              <a:latin typeface="Calibri"/>
            </a:endParaRPr>
          </a:p>
          <a:p>
            <a:pPr lvl="1" marL="735480" indent="-28296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s soon as appointments are received and the Office of the Secretary can update rosters, the committee chair will be notified of appointments for committees that require membership from these organizations.</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y Am </a:t>
            </a:r>
            <a:r>
              <a:rPr b="0" lang="en-US" sz="4000" spc="-1" strike="noStrike" u="sng">
                <a:solidFill>
                  <a:srgbClr val="000000"/>
                </a:solidFill>
                <a:uFillTx/>
                <a:latin typeface="Calibri"/>
              </a:rPr>
              <a:t>I</a:t>
            </a:r>
            <a:r>
              <a:rPr b="0" lang="en-US" sz="4000" spc="-1" strike="noStrike">
                <a:solidFill>
                  <a:srgbClr val="000000"/>
                </a:solidFill>
                <a:latin typeface="Calibri"/>
              </a:rPr>
              <a:t> Giving This Presentation?</a:t>
            </a:r>
            <a:endParaRPr b="0" lang="en-US" sz="4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    The President-elect shall have the following dutie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Serve on the Operations Committee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Perform the duties of the President in the absence of the President.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Assist the President in representing the faculty before the Administration, the Regents, and other groups. </a:t>
            </a:r>
            <a:endParaRPr b="0" lang="en-US" sz="2800" spc="-1" strike="noStrike">
              <a:solidFill>
                <a:srgbClr val="000000"/>
              </a:solidFill>
              <a:latin typeface="Calibri"/>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4)   Oversee Faculty Senate committee appointments. </a:t>
            </a:r>
            <a:endParaRPr b="0" lang="en-US" sz="2800" spc="-1" strike="noStrike">
              <a:solidFill>
                <a:srgbClr val="000000"/>
              </a:solidFill>
              <a:latin typeface="Calibri"/>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y Am I Giving </a:t>
            </a:r>
            <a:r>
              <a:rPr b="0" lang="en-US" sz="4000" spc="-1" strike="noStrike" u="sng">
                <a:solidFill>
                  <a:srgbClr val="000000"/>
                </a:solidFill>
                <a:uFillTx/>
                <a:latin typeface="Calibri"/>
              </a:rPr>
              <a:t>This</a:t>
            </a:r>
            <a:r>
              <a:rPr b="0" lang="en-US" sz="4000" spc="-1" strike="noStrike">
                <a:solidFill>
                  <a:srgbClr val="000000"/>
                </a:solidFill>
                <a:latin typeface="Calibri"/>
              </a:rPr>
              <a:t> Presentation?</a:t>
            </a:r>
            <a:endParaRPr b="0" lang="en-US" sz="40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s pointed out in the previous presentation, the mechanism of shared governance at UNM is through the Faculty Senate (and AF&amp;T and COG), and much of the actual work is done in the committe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ver the last several years, there has been a perceived breakdown in shared governance at UNM.</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few example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ffice of Research</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M Budget &amp; Administrative Growth</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arning Assess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ing Committees</a:t>
            </a:r>
            <a:endParaRPr b="0" lang="en-US" sz="4400" spc="-1" strike="noStrike">
              <a:solidFill>
                <a:srgbClr val="000000"/>
              </a:solidFill>
              <a:latin typeface="Calibri"/>
            </a:endParaRPr>
          </a:p>
        </p:txBody>
      </p:sp>
      <p:sp>
        <p:nvSpPr>
          <p:cNvPr id="48" name=""/>
          <p:cNvSpPr txBox="1"/>
          <p:nvPr/>
        </p:nvSpPr>
        <p:spPr>
          <a:xfrm>
            <a:off x="457200" y="1066680"/>
            <a:ext cx="8229600" cy="563904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tanding Committees</a:t>
            </a: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dmissions and Registration Committee </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thletic Council </a:t>
            </a:r>
            <a:endParaRPr b="0" lang="en-US" sz="1300" spc="-1" strike="noStrike">
              <a:solidFill>
                <a:srgbClr val="000000"/>
              </a:solidFill>
              <a:latin typeface="Calibri"/>
            </a:endParaRPr>
          </a:p>
          <a:p>
            <a:pPr lvl="1" marL="743040" indent="-285840">
              <a:lnSpc>
                <a:spcPct val="80000"/>
              </a:lnSpc>
              <a:spcBef>
                <a:spcPts val="326"/>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00000"/>
                </a:solidFill>
                <a:latin typeface="Calibri"/>
              </a:rPr>
              <a:t>Budget Committee </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mputer Use Committee </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urricula Committee </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Faculty Ethics and Advisory Committee </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Faculty and Staff Benefits Committee </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raduate Committee (members appointed by Colleges/Schools) </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overnmental Relations Committee </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ntellectual Property Committee </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ibrary Committee </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Research Allocations Committee </a:t>
            </a:r>
            <a:endParaRPr b="0" lang="en-US" sz="1300" spc="-1" strike="noStrike">
              <a:solidFill>
                <a:srgbClr val="000000"/>
              </a:solidFill>
              <a:latin typeface="Calibri"/>
            </a:endParaRPr>
          </a:p>
          <a:p>
            <a:pPr lvl="1" marL="743040" indent="-285840">
              <a:lnSpc>
                <a:spcPct val="80000"/>
              </a:lnSpc>
              <a:spcBef>
                <a:spcPts val="326"/>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00000"/>
                </a:solidFill>
                <a:latin typeface="Calibri"/>
              </a:rPr>
              <a:t>Research Policy Committee </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cholarship Committee </a:t>
            </a:r>
            <a:endParaRPr b="0" lang="en-US" sz="1300" spc="-1" strike="noStrike">
              <a:solidFill>
                <a:srgbClr val="000000"/>
              </a:solidFill>
              <a:latin typeface="Calibri"/>
            </a:endParaRPr>
          </a:p>
          <a:p>
            <a:pPr lvl="1" marL="743040" indent="-285840">
              <a:lnSpc>
                <a:spcPct val="80000"/>
              </a:lnSpc>
              <a:spcBef>
                <a:spcPts val="326"/>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00000"/>
                </a:solidFill>
                <a:latin typeface="Calibri"/>
              </a:rPr>
              <a:t>Teaching Enhancement Committee </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Undergraduate Committee </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University Honors Council </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University Press Committee</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olicy Committee</a:t>
            </a:r>
            <a:endParaRPr b="0" lang="en-US" sz="13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dministrative Committees</a:t>
            </a: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ampus Planning Committee</a:t>
            </a:r>
            <a:endParaRPr b="0" lang="en-US" sz="13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tudent Committees</a:t>
            </a: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nternational Affairs Committee </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tudent Union Board </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tudent Conduct </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tudent Publications Board</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earch Policy Committee</a:t>
            </a:r>
            <a:endParaRPr b="0" lang="en-US" sz="4400" spc="-1" strike="noStrike">
              <a:solidFill>
                <a:srgbClr val="000000"/>
              </a:solidFill>
              <a:latin typeface="Calibri"/>
            </a:endParaRPr>
          </a:p>
        </p:txBody>
      </p:sp>
      <p:sp>
        <p:nvSpPr>
          <p:cNvPr id="50" name=""/>
          <p:cNvSpPr txBox="1"/>
          <p:nvPr/>
        </p:nvSpPr>
        <p:spPr>
          <a:xfrm>
            <a:off x="457200" y="1371240"/>
            <a:ext cx="8229600" cy="5334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Research Policy Committee Charge states:</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primary role of the Research Policy Committee shall be to encourage and support research and its funding at the University of New Mexico, including all its established units. The functions of the committee shall include, but not be limited to: </a:t>
            </a:r>
            <a:r>
              <a:rPr b="0" lang="en-US" sz="1500" spc="-1" strike="noStrike">
                <a:solidFill>
                  <a:srgbClr val="c00000"/>
                </a:solidFill>
                <a:latin typeface="Calibri"/>
              </a:rPr>
              <a:t>initiating, formulating, recommending, and reviewing policies regarding sponsored and unsponsored research, and intellectual property; recommending University policy regarding the distribution of overhead and institutional grants; reviewing with the chief administrative officers for research the research budget of the University prior to and during its final development</a:t>
            </a:r>
            <a:r>
              <a:rPr b="0" lang="en-US" sz="1500" spc="-1" strike="noStrike">
                <a:solidFill>
                  <a:srgbClr val="000000"/>
                </a:solidFill>
                <a:latin typeface="Calibri"/>
              </a:rPr>
              <a:t>, and informing and making recommendations to the Faculty Senate regarding this budget; recommending policy concerning the use of the Faculty Research Fund and reviewing and making recommendations to the administration through the Faculty Senate regarding the budget of the Faculty Research Fund; formulating policy regarding the establishment, major modification or termination, and periodic review of research centers, bureaus, institutes, or other related organizations, reviewing and making recommendations to the central administration and the Faculty Senate on proposals regarding these bodies, and participating in the periodic review of these centers; </a:t>
            </a:r>
            <a:r>
              <a:rPr b="0" lang="en-US" sz="1500" spc="-1" strike="noStrike">
                <a:solidFill>
                  <a:srgbClr val="c00000"/>
                </a:solidFill>
                <a:latin typeface="Calibri"/>
              </a:rPr>
              <a:t>evaluating, formulating and recommending policy concerning research support services provided by computer facilities, libraries, contract accounting, research administration, and other support organizations; making recommendations to the central administration when the appointment of the chief administrative officers for research is being considered; </a:t>
            </a:r>
            <a:r>
              <a:rPr b="0" lang="en-US" sz="1500" spc="-1" strike="noStrike">
                <a:solidFill>
                  <a:srgbClr val="000000"/>
                </a:solidFill>
                <a:latin typeface="Calibri"/>
              </a:rPr>
              <a:t>making recommendations to the Faculty Senate on matters of grant research, contract research, patent and copyright policy, and policy on commercialization of intellectual property affecting directly or indirectly the faculty and University as a whole; consulting with the Faculty Senate on formulating the charge of the Intellectual Property Committee as called for in the University Intellectual Property Policy; recommending candidates for the Annual Research Lectureship; meeting with the academic deans formally at least once each year to discuss current problems and exchange information concerning research; and consulting with the chief administrative officers for research regarding implementation of policies.</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dget Committee</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Budget Committee has the responsibility to make recommendations to the Faculty Senate for advising the budget office in developing the university budget. In particular, the functions of the committee include, but are not limited to: (a) the presentation to the Faculty Senate each September of an analysis of the previous year's disbursement of incremental resources; and (b) </a:t>
            </a:r>
            <a:r>
              <a:rPr b="0" lang="en-US" sz="3000" spc="-1" strike="noStrike">
                <a:solidFill>
                  <a:srgbClr val="c00000"/>
                </a:solidFill>
                <a:latin typeface="Calibri"/>
              </a:rPr>
              <a:t>the development with the central administration of the university budget for presentation to the regent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aching Enhancement Committee</a:t>
            </a:r>
            <a:endParaRPr b="0" lang="en-US" sz="4400" spc="-1" strike="noStrike">
              <a:solidFill>
                <a:srgbClr val="000000"/>
              </a:solidFill>
              <a:latin typeface="Calibri"/>
            </a:endParaRPr>
          </a:p>
        </p:txBody>
      </p:sp>
      <p:sp>
        <p:nvSpPr>
          <p:cNvPr id="54" name=""/>
          <p:cNvSpPr txBox="1"/>
          <p:nvPr/>
        </p:nvSpPr>
        <p:spPr>
          <a:xfrm>
            <a:off x="457200" y="1599840"/>
            <a:ext cx="8229600" cy="48006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urpose of the Teaching Enhancement Committee shall be to encourage and support quality teaching and its funding as the primary role of the University of New Mexico, including all its established units. The TEC will in no way infringe upon the academic freedom of faculty members in searching for and imparting knowledge. The functions of the committee shall include, but not be limited to: </a:t>
            </a:r>
            <a:r>
              <a:rPr b="0" lang="en-US" sz="1800" spc="-1" strike="noStrike">
                <a:solidFill>
                  <a:srgbClr val="c00000"/>
                </a:solidFill>
                <a:latin typeface="Calibri"/>
              </a:rPr>
              <a:t>initiating, formulating and recommending policies regarding teaching resources, support staff and faculties</a:t>
            </a:r>
            <a:r>
              <a:rPr b="0" lang="en-US" sz="1800" spc="-1" strike="noStrike">
                <a:solidFill>
                  <a:srgbClr val="000000"/>
                </a:solidFill>
                <a:latin typeface="Calibri"/>
              </a:rPr>
              <a:t>; recommending University policy regarding the granting of awards and stipends for outstanding teaching and scholarly achievements; oversee selection of Presidential Teaching Fellow and Teacher of the Year Awards and future University teaching honors; awarding funds to be used as incentives to enhance teaching methods and curriculum development through the Teaching Allocations Subcommittee; </a:t>
            </a:r>
            <a:r>
              <a:rPr b="0" lang="en-US" sz="1800" spc="-1" strike="noStrike">
                <a:solidFill>
                  <a:srgbClr val="c00000"/>
                </a:solidFill>
                <a:latin typeface="Calibri"/>
              </a:rPr>
              <a:t>reviewing and recommending the use of contemporary and developing tools for teaching quality and productivity</a:t>
            </a:r>
            <a:r>
              <a:rPr b="0" lang="en-US" sz="1800" spc="-1" strike="noStrike">
                <a:solidFill>
                  <a:srgbClr val="000000"/>
                </a:solidFill>
                <a:latin typeface="Calibri"/>
              </a:rPr>
              <a:t>; serve as an advisory committee to the Center for the Advancement of Scholarship in Teaching and Learning (CASTL); </a:t>
            </a:r>
            <a:r>
              <a:rPr b="0" lang="en-US" sz="1800" spc="-1" strike="noStrike">
                <a:solidFill>
                  <a:srgbClr val="c00000"/>
                </a:solidFill>
                <a:latin typeface="Calibri"/>
              </a:rPr>
              <a:t>evaluating, formulating and recommending policy concerning teaching support services provided by computer facilities, libraries, media services, and other support organizations</a:t>
            </a:r>
            <a:r>
              <a:rPr b="0" lang="en-US" sz="1800" spc="-1" strike="noStrike">
                <a:solidFill>
                  <a:srgbClr val="000000"/>
                </a:solidFill>
                <a:latin typeface="Calibri"/>
              </a:rPr>
              <a:t>; developing and recommending a plan for the institution of an annual lecture by an outstanding teacher and the procedure for selection; meeting formally with the Deans' Council and the Senate Operations Committee at least once each year to discuss current problems and exchange information concerning teaching.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PRED</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Feb., 2007, then Provost Dasenbrock created a Research Study Grou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of the recommendations of the RSG was the creation of the Executive Research Advisory Council.</a:t>
            </a:r>
            <a:endParaRPr b="0" lang="en-US" sz="3200" spc="-1" strike="noStrike">
              <a:solidFill>
                <a:srgbClr val="000000"/>
              </a:solidFill>
              <a:latin typeface="Calibri"/>
            </a:endParaRPr>
          </a:p>
        </p:txBody>
      </p:sp>
      <p:pic>
        <p:nvPicPr>
          <p:cNvPr id="57" name="Picture 4" descr=""/>
          <p:cNvPicPr/>
          <p:nvPr/>
        </p:nvPicPr>
        <p:blipFill>
          <a:blip r:embed="rId1"/>
          <a:stretch/>
        </p:blipFill>
        <p:spPr>
          <a:xfrm>
            <a:off x="380880" y="2590920"/>
            <a:ext cx="8433000" cy="1143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RAC Summarized</a:t>
            </a:r>
            <a:endParaRPr b="0" lang="en-US" sz="4400" spc="-1" strike="noStrike">
              <a:solidFill>
                <a:srgbClr val="000000"/>
              </a:solidFill>
              <a:latin typeface="Calibri"/>
            </a:endParaRPr>
          </a:p>
        </p:txBody>
      </p:sp>
      <p:pic>
        <p:nvPicPr>
          <p:cNvPr id="59" name="Picture 6" descr=""/>
          <p:cNvPicPr/>
          <p:nvPr/>
        </p:nvPicPr>
        <p:blipFill>
          <a:blip r:embed="rId1"/>
          <a:stretch/>
        </p:blipFill>
        <p:spPr>
          <a:xfrm>
            <a:off x="2876400" y="1773360"/>
            <a:ext cx="3391200" cy="4181400"/>
          </a:xfrm>
          <a:prstGeom prst="rect">
            <a:avLst/>
          </a:prstGeom>
          <a:ln w="0">
            <a:noFill/>
          </a:ln>
        </p:spPr>
      </p:pic>
      <p:sp>
        <p:nvSpPr>
          <p:cNvPr id="60" name="TextBox 4"/>
          <p:cNvSpPr/>
          <p:nvPr/>
        </p:nvSpPr>
        <p:spPr>
          <a:xfrm>
            <a:off x="5719680" y="5867280"/>
            <a:ext cx="177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RSG Repor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8T18:22:14Z</dcterms:created>
  <dc:creator>Douglas E Fields</dc:creator>
  <dc:description/>
  <dc:language>en-US</dc:language>
  <cp:lastModifiedBy>Douglas E Fields</cp:lastModifiedBy>
  <dcterms:modified xsi:type="dcterms:W3CDTF">2008-08-20T17:28:38Z</dcterms:modified>
  <cp:revision>4</cp:revision>
  <dc:subject/>
  <dc:title>Faculty Senate Committees</dc:title>
</cp:coreProperties>
</file>